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camera.wav" ContentType="audio/x-wav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626B-E8AF-4A5F-957B-DABF21184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5AA8-B024-4746-8902-59111749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D4C3-EFCB-4333-B025-4ED18B6F1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D06F-F7C2-4E79-95B5-C95947A82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5527A-259B-42AF-9603-AFF347E7D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6B217-A057-4971-9706-0DAECDA1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C4FF4-A6B9-47D1-8EBB-834B33E52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D8C56-9FCB-4FA2-B459-304F2F4BB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E0031-C0F0-4472-919F-6E1BCAB1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1E25F-E75F-46E1-830B-4FB26C3D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C2B9F-B791-4CEB-B981-668E392C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875C-7008-445A-9EA9-AD464E333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D0BDD-D815-41DE-90B1-0E3E98BF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70F60-AC01-4884-9A3A-8CBFE70B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7063D-1E1E-432C-8457-FAE5E8EEB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3301D-9D3C-4B0E-8D0E-B26FB5CDD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82463-8782-4A42-8913-121FB8EE8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C6836-4AD6-41BA-B287-22FC2BA56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0B9A9-48C7-4E8C-BF88-9082003A4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A854B-1BF1-40AC-8484-CB5CC3A27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96573-42A2-442D-BA7E-3359F8015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4C0BF-CC06-4400-90F0-DF26460C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9683-2E10-4D20-8F44-02287F649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4CA75-3FB2-4EDF-9EFC-B3D38F8A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63205-4F57-408A-AB25-E2652D4E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02E7D-28D3-437B-9A7E-39EEADEB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BD0E7-23B6-47ED-AEBD-29029F1C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03664-34DA-4C95-95B7-176BBBBA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44288-88B5-41BB-9AD9-29270C3CC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031BD-364E-415F-BABB-3A5E2B7DC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723CC4-1066-4F41-B1E3-C7C6FF978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8AEA29-6340-4B52-8D1F-081A7EAE9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2FA994-FFA7-4DD7-BC66-498C7E9FD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248C-AB5F-4174-B990-78BDF5243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07A270-CFA6-49DD-90F0-04B4580B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65E2B8-A697-488A-9A59-7C7371DE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01D713-CEF2-4D4B-99B5-B1433FFE6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F1B6D1-A265-4728-A71E-4E669B2F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14F756-0E66-4542-B0C0-5DD5457C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71D4FF-68FB-42B4-8B24-0956CF38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287410-AA7F-4B00-84F9-6387B5A39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B2ECC2-BF5D-4AC3-AEDE-5D2798E3C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93D47E-2C74-4D0F-A361-E8014D659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6BEC-417A-4C00-85DF-289309604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1F1B-97E5-41AC-A2E7-E9856036D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F6D3-FF1B-4C77-97DC-8014896A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1E5B-BE46-4EAF-948C-53177659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551D-4EA7-4B12-9D7C-7C8CDC88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DC89F-9D09-4C54-A5FD-5FB98A1B4A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D7B8A-4C82-4240-9B2B-A25CE048EC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14B7-2B90-404C-BB7B-BEB2DF871A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0160D-6E69-4499-8B16-8467D4F8D6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258920" y="476280"/>
            <a:ext cx="576108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042920" y="476280"/>
            <a:ext cx="4105440" cy="341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21023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DecoType Naskh Variants"/>
              </a:rPr>
              <a:t>عــام أفــل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DecoType Naskh Variants"/>
              <a:ea typeface="DecoType Naskh Variants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DecoType Naskh Variants"/>
              </a:rPr>
              <a:t>وعــــــام أطـــــل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DecoType Naskh Variants"/>
              <a:ea typeface="DecoType Naskh Variants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68360" y="1557360"/>
            <a:ext cx="820728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خليليّ كم من ميت قد حضرته             ولـكــنني لم أنتفـــع بحضـــــوري</a:t>
            </a:r>
            <a:br>
              <a:rPr sz="2800"/>
            </a:b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كم من ليال قد أرتني عجائبــــاً             لهن وأيام خـــــلت وشهــــــــور</a:t>
            </a:r>
            <a:br>
              <a:rPr sz="2800"/>
            </a:b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كم من سنـــين قد طوتني كثيرة               وكم من أمور قد جرت وأمـور</a:t>
            </a:r>
            <a:br>
              <a:rPr sz="2800"/>
            </a:b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من لم يزده السن ما عاش عبرة               فذاك الذي لا يســتنير بنـــــــور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50920" y="765000"/>
            <a:ext cx="8353440" cy="75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عن ابن عمر رضي الله عنه قال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r>
              <a:rPr b="1" lang="hi-IN" sz="40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أخذ رسول الله صلى الله عليه وسلم بمنكبي فقال 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( كن في الدنيا كأنك غريب أو عابر سبيل )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وكان ابن عمر يقول 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( إذا أمسيت فلا تنتظر الصباح وإذا أصبحت فلا تنتظر المساء 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وخذ من صحتك لمرضك ، ومن حياتك لموتك 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رواه البخاري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1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3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907920"/>
            <a:ext cx="885492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</a:t>
            </a: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ـطعـــت شهـــور العمــر لـهوا وغـفـــــــلة        ولم تحـــــترم فيمــــــا أتيت المحــــــــــرّما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فلا رجــب وافــــــــــيت فـيه بـــحـــــــقه        ولا صمت شهر الصـــوم صوما متمم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لا في ليــالي عشر ذي الحــــــــجــة الذي       مضى كنت قـواما ولا كنت محــــــــرم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</a:t>
            </a: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فهــــل لك أن تمــــــحي الذنـــــــوب بـعـبرة       وتبكـي عـليها حســرة وتنــــــــــدمــــ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</a:t>
            </a: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تسـتـــــــقبل العــــــــام الجـــــديـد بتوبـــة       لعـلك أن تمحـوا بـها ما تقـــــــــــــــد مــا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2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2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2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hi-IN" sz="4000" spc="-1" strike="noStrike">
                <a:solidFill>
                  <a:srgbClr val="ffffff"/>
                </a:solidFill>
                <a:latin typeface="Tahoma"/>
                <a:cs typeface="DecoType Naskh"/>
              </a:rPr>
              <a:t>قيل لنوح عليه السلام، وقد لبث مع قومه ألف سنة إلا خمسين عاماً: كيف رأيت هذه الدنيا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DecoType Naskh"/>
              </a:rPr>
              <a:t> </a:t>
            </a:r>
            <a:r>
              <a:rPr b="1" lang="hi-IN" sz="4800" spc="-1" strike="noStrike">
                <a:solidFill>
                  <a:srgbClr val="ffffff"/>
                </a:solidFill>
                <a:latin typeface="Tahoma"/>
                <a:cs typeface="DecoType Naskh"/>
              </a:rPr>
              <a:t>فقال: كداخل </a:t>
            </a:r>
            <a:r>
              <a:rPr b="1" lang="hi-IN" sz="4800" spc="-1" strike="noStrike">
                <a:solidFill>
                  <a:srgbClr val="ffffff"/>
                </a:solidFill>
                <a:latin typeface="Tahoma"/>
                <a:cs typeface="DecoType Naskh"/>
              </a:rPr>
              <a:t>من باب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  <a:ea typeface="DecoType Naskh"/>
              </a:rPr>
              <a:t> وخارج من آخر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4" dur="9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912" fill="hold">
                                          <p:stCondLst>
                                            <p:cond delay="9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9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12" autoRev="1" fill="hold">
                                          <p:stCondLst>
                                            <p:cond delay="9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404640"/>
            <a:ext cx="8820000" cy="61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الفرح بقطع الأيام والأعوام دون اعتبار وحساب لما كان فيها ويكون بعده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هو من البيع المغبون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فالعاقل من اتعظ بأمسه، واجتهد في يومه، واستعد لغد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ahoma"/>
                <a:ea typeface="DecoType Naskh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3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3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3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3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3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3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3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3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71640" y="2133720"/>
            <a:ext cx="712764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من تفكر في عواقب الدنيا أخذ الحذر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من أيقن بطول الطريق تأهب للسفر،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ما أعجب أمرك يا من يُوقن بأمر ثم ينساه 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يتحقق ضرراً حالاًَّ ثم يغشاه 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تغلبكَ نفسُك على ما تظن ، ولا تغلبها على ماتستيقن !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24000" y="1125360"/>
            <a:ext cx="471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قال ابن الجوزي رحمه الله تعال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3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3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3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3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3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3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3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3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3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3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84360" y="981000"/>
            <a:ext cx="79200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اجعل جل اهتمامك بالآخرة يزح الله به باقي الهموم ليصفو القلب لله تعال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إن كان في بحر من الابتلاء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ال صلى الله عليه وسلم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( من جعل الهموم هما واحدا هم المعاد كفاه الله سائر همومه 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من تشعبت به الهموم من أحوال الدني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لم يبال الله في أي أوديتها هلك 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68360" y="333360"/>
            <a:ext cx="8207280" cy="57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DecoType Thuluth"/>
              </a:rPr>
              <a:t>تجارة الآخرة لا تبور .. والتهافت على الدنيا لا يغير المقد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ea typeface="DecoType Naskh"/>
              </a:rPr>
              <a:t> قال صلى الله عليه وسلم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ea typeface="DecoType Naskh"/>
              </a:rPr>
              <a:t>( من كانت الآخرة همه ،جعل الله غناه في قلبه ، وجمع له شمله 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وأتته الدنيا وهي راغمة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ومن كانت الدنيا هم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جعل الله فقره بين عينيه ، وفرق عليه شمله 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ولم يأته من الدنيا إلا ما قدر له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39640" y="1125360"/>
            <a:ext cx="820908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74560" y="2133720"/>
            <a:ext cx="856944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ما مـــــــــضى كان همساتُ مُشْفِــــقة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وكلماتُ ناصـــــــــــــــحة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فإن يكن زل لساني عن صواب فاعذروني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أو يكن واقع سوءاً سامحوني </a:t>
            </a:r>
            <a:r>
              <a:rPr b="1" lang="ar-SA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ف الله الله في المسامحه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واعذروني على التقصير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                                                      </a:t>
            </a:r>
            <a:r>
              <a:rPr b="1" lang="ar-SA" sz="24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8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9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0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1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4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0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1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2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6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8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9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2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3000"/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3000" fill="hold"/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3000" fill="hold"/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7577280" y="1716120"/>
            <a:ext cx="18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1280" y="2066760"/>
            <a:ext cx="7991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DecoType Naskh"/>
              </a:rPr>
              <a:t>ونحن في أواخر مراحل هذا العام ولا ندري أندرك عامنا الجديد أم يحول  المنون بيننا وبينه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DecoType Naskh"/>
              </a:rPr>
              <a:t>إليك هذه الوقف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DecoType Naskh"/>
              </a:rPr>
              <a:t>أسأل الله تعالى أن تجد لها في قلبك موضعا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DecoType Naskh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56000" y="692280"/>
            <a:ext cx="46083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Thuluth"/>
              </a:rPr>
              <a:t>بسم الله الرحمن الرح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16000" y="1268280"/>
            <a:ext cx="6840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يا نفس لله توبي  واستغفري من ذنوبي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فقد بدت  شمس عامي  تميل نحو  الغروب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059280" y="3084480"/>
            <a:ext cx="4125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1280" y="595440"/>
            <a:ext cx="79214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Naskh"/>
              </a:rPr>
              <a:t>نسير إلى الآجال في كل لحـظة  *** وأعمارنا تطــوى وهن مــراح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Naskh"/>
              </a:rPr>
              <a:t>ترحل من الدنيا بزاد من التقى *** فعمـــرك أيـــــــام وهــنّ قــــــلائـ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Naskh"/>
              </a:rPr>
              <a:t>وما هذه الأيام إلا مــــــراحــل  *** يحث بها حاد إلى الموت قاص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Naskh"/>
              </a:rPr>
              <a:t>وأعجب شيء لو تأملت أنها *** منازل تطـوى والمســـافر قــــاع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6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6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6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6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6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6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6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6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6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6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84360" y="1125360"/>
            <a:ext cx="6912000" cy="65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Traditional Arabic"/>
              </a:rPr>
              <a:t>قال علي بن أبي طالب رضي الله تعالى عنه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(ارتحلت الدنيا مدبرة وارتحلت الآخرة مقبل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ولكل واحدة منها بنون،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فكونوا من أبناء الآخرة، ولا تكونوا من أبناء الدنيا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فإن اليوم عمل ولا حساب،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وغداً حساب ولا عمل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أخرجه البخاري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3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3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3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3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" dur="3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" dur="3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68360" y="333360"/>
            <a:ext cx="8207280" cy="61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ال الفضيل بن عياض لرجل : كم أتى عليك ؟ قال : ستون سنة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ال : فأنت منذ ستين سنة تسير إلى ربك يوشك أن تبلغ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فقال الرجل : إنا لله و إنا إليه راجعو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ال الفضيل : أتعرف تفسيره تقول : إنا لله و إنا إليه راجعون 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فمن علم أنه لله عبد وأنه إليه راجع فليعلم أنه موقوف ، ومن علم أنه موقوف 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فليعلم أنه مسئول ، فليعد للسؤال جوابا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فقال الرجل : فما الحيلة ؟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ال : يسيرة . قال: ما هي 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قال : تحسن فيما بقي يغفر لك ما مضى 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فإنك إن أسأت فيما بقي ، أُخذت بما مضى وما بقي والأعمال بالخواتيم .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  <a:ea typeface="DecoType Naskh Spec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5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8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1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4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7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0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3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6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9" dur="2000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2" dur="2000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9144000" cy="5950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26920" y="260280"/>
            <a:ext cx="78487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95640" y="1341360"/>
            <a:ext cx="5111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Traditional Arabic"/>
              </a:rPr>
              <a:t>وأنت تسير في هذه الدنيا .. هناك يوم سيتوقف المسير وتحط بك القافلة ولكن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321300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Thuluth"/>
              </a:rPr>
              <a:t>إذا أنت لم ترحلْ بزادٍ من التقى     ولاقيتَ بعد الموتِ من قد تزود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Thuluth"/>
              </a:rPr>
              <a:t>ندمتَ على ألا تكون كمثـــــــلِه      وأنك لم ترصدْ كما كان أرصد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9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3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3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260280"/>
            <a:ext cx="9144000" cy="56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تمر ســاعـات أيـــامي بلا نــــــــدم           ولا بـكاء ولا خـوف ولا حــــــز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ما أحلم الله عني حيث أمـــهـلني          وقد تمـاديت في ذنبـي ويســـــــــــترنـي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أنا الذي أغلق الأبواب مجتهــــــدا          على المعاصي وعين الله تنظــــــــــــرني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دعني أنوح على نفسي وأنـدبــهـــا          وأقطع الدهــــــر بالتـــسبيح والحـــز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دعني أسح دموعا لا انقطـاع لـها         فهل عسـى عـبـــــرة منـي تخـــــلــصـن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11280" y="1413000"/>
            <a:ext cx="784836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 </a:t>
            </a: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إنـا لنفرح بالأيام نقطـعــــــــــــــــها      وكل يوم مضى يدني من الأجـل </a:t>
            </a:r>
            <a:br>
              <a:rPr sz="2800"/>
            </a:b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فاعمل لنفسك قبل الموت مجتهـداً       فـــإنما الربــح والخسران في العمل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17T13:59:49Z</dcterms:created>
  <dc:creator>Al-Mshikhi</dc:creator>
  <dc:description/>
  <dc:language>en-US</dc:language>
  <cp:lastModifiedBy>sjuhaifa</cp:lastModifiedBy>
  <dcterms:modified xsi:type="dcterms:W3CDTF">2007-01-22T04:32:59Z</dcterms:modified>
  <cp:revision>61</cp:revision>
  <dc:subject/>
  <dc:title>الشريحة 1</dc:title>
</cp:coreProperties>
</file>